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72514"/>
        <c:axId val="70592352"/>
      </c:barChart>
      <c:catAx>
        <c:axId val="33972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92352"/>
        <c:crosses val="autoZero"/>
        <c:auto val="1"/>
        <c:lblAlgn val="ctr"/>
        <c:lblOffset val="100"/>
        <c:noMultiLvlLbl val="0"/>
      </c:catAx>
      <c:valAx>
        <c:axId val="70592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72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7C8-723C-4C27-B13C-610ED4E6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D75-BDF2-44E8-B5AE-6FF8819C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E06-FCB1-468A-8A6A-9E74C73A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83D-CAA4-4DB1-99BA-56706357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3EB-AE89-4072-B169-4B415536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208-ED93-41AA-B9F3-290E1A58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1F8-0CDD-466F-B1BF-59B2FD3C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942-3D6B-42D9-BBF7-26481431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BE6-F218-441E-824C-4666ACB1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504-501F-4B42-9D91-6432B81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187-6354-4A17-9369-88242385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6CC-D21D-403E-8517-617BC7D4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A533A-CA2C-4910-AFFE-4810E65ED7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