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97712"/>
        <c:axId val="82030303"/>
      </c:barChart>
      <c:catAx>
        <c:axId val="39497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30303"/>
        <c:crosses val="autoZero"/>
        <c:auto val="1"/>
        <c:lblAlgn val="ctr"/>
        <c:lblOffset val="100"/>
        <c:noMultiLvlLbl val="0"/>
      </c:catAx>
      <c:valAx>
        <c:axId val="82030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97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20D-8D97-4DA3-8282-EC560401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502-289E-412A-9DFA-6DE42F5D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FAEA-AEFD-43B4-910D-63B7C121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2CCC-94FE-496A-BD36-FBC95CFD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59CB-A791-4B8B-B202-8C4E5FF6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95F-9336-4A1F-95F4-55DB472F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CFD-D5D3-4534-8AFD-CCDD95B7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3A4-9FED-42A3-AE5F-566911C9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9EF-6417-42D1-8BDD-FA9F6AA1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0B7-3C93-4284-8FAB-425F8D05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0A3-7C5E-4BCC-B859-F9808106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755-8B50-4F0C-B429-BB3337F2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38B6C-1E1D-4EF8-B018-3EB3E86DCA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