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21949"/>
        <c:axId val="88465266"/>
      </c:barChart>
      <c:catAx>
        <c:axId val="46221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65266"/>
        <c:crosses val="autoZero"/>
        <c:auto val="1"/>
        <c:lblAlgn val="ctr"/>
        <c:lblOffset val="100"/>
        <c:noMultiLvlLbl val="0"/>
      </c:catAx>
      <c:valAx>
        <c:axId val="88465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21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F53-2207-49E6-924F-169AAE6E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264-1641-45C6-A62A-E16A0C77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9D8-5AFE-4947-9453-7E13C04B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4CD-8A83-416F-8273-3A186CD5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617-D89A-43CC-A0A9-BDB49A01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907-0368-4FD9-8B87-618681B1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CAC-5F19-4139-99E8-DA75AE95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77B-E0DA-46A2-B5AE-906B9C29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473-AF3E-4098-B7BC-E0EC2B9C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B97-EF09-4E2F-A120-50C9B23D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756-D5FD-4798-B6B2-509C4FE4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FE34-EE65-4349-98A4-7D12F165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F6F93-B008-4384-AA61-FDD0A2F6EF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