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74614"/>
        <c:axId val="9766794"/>
      </c:barChart>
      <c:catAx>
        <c:axId val="82674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794"/>
        <c:crosses val="autoZero"/>
        <c:auto val="1"/>
        <c:lblAlgn val="ctr"/>
        <c:lblOffset val="100"/>
        <c:noMultiLvlLbl val="0"/>
      </c:catAx>
      <c:valAx>
        <c:axId val="9766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74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C2F-07B6-47E7-A7F4-E9CA69DE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DC8-F444-4897-8078-C3451361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3EF-53BD-4C7F-BE11-1635286D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A8D-BB09-4A4F-81BF-B10A9972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7B2-57FC-46C0-8072-6A63924B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0E1-5E09-4ED4-B789-A96EF15A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1BD-3CAF-4E81-A6E5-6ED29C8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8E0-DE43-40DF-840B-3774825E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771-BB4C-45EC-BD76-AE0C5E49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E96-852E-4276-B99B-370B32E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AE5-4DDA-4F61-BED7-EFEAD98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43C-E947-46A2-98BA-384627E6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81EF3-4E34-496C-B84D-0C6F2ABFD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