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55511"/>
        <c:axId val="60013218"/>
      </c:barChart>
      <c:catAx>
        <c:axId val="91255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13218"/>
        <c:crosses val="autoZero"/>
        <c:auto val="1"/>
        <c:lblAlgn val="ctr"/>
        <c:lblOffset val="100"/>
        <c:noMultiLvlLbl val="0"/>
      </c:catAx>
      <c:valAx>
        <c:axId val="60013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5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969-A030-4A58-8A23-7CD5866B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DB6-0961-4718-B6EB-68BF36C1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9C1-45C1-4D2D-A61C-C4228E5D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AF3-E603-405A-8C52-AAB8D888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A55-FB93-494C-BDDC-BEF1FE1B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C3C-6E22-4F26-80A5-BF241847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60A-3973-4137-97BD-71B30FDF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474-6F75-4908-B861-85FC1AE0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706-9929-4325-A234-E7C4E12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513-C222-429C-B2F0-FD711E70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588-1FC6-44DE-9658-3BF2914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772-7BBC-4F73-8434-CD95AE6A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6E7BF-4853-4FC3-BEF4-4C00DDF487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