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40508"/>
        <c:axId val="6465620"/>
      </c:barChart>
      <c:catAx>
        <c:axId val="91540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5620"/>
        <c:crosses val="autoZero"/>
        <c:auto val="1"/>
        <c:lblAlgn val="ctr"/>
        <c:lblOffset val="100"/>
        <c:noMultiLvlLbl val="0"/>
      </c:catAx>
      <c:valAx>
        <c:axId val="6465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40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0D1-D4F2-49B8-A785-69ACC458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5BA-1448-48AA-8EA2-840F776B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705-8BC3-4A5D-8091-ED485922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316-DD26-4FF0-BF66-4DB7C5C3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846-6BB5-4558-B13E-09AF2C5D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F92-3A5E-47B5-9F84-0A71520E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9A1-0207-4698-9B4D-D9D1401C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8B9-5A0D-4412-9CE2-26E3252C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B8B-FB20-41F7-848C-C2D79EED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2A3-C2C3-4650-92B2-A33AEC93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270-1634-4EFB-AA32-05EB08F5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6AF-00BD-4AB5-9F2C-21EBFDD2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6942B-CECC-4CF0-9079-705FB6B8EB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