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217466"/>
        <c:axId val="51112808"/>
      </c:barChart>
      <c:catAx>
        <c:axId val="16217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12808"/>
        <c:crosses val="autoZero"/>
        <c:auto val="1"/>
        <c:lblAlgn val="ctr"/>
        <c:lblOffset val="100"/>
        <c:noMultiLvlLbl val="0"/>
      </c:catAx>
      <c:valAx>
        <c:axId val="51112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17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1A9-CDAF-4E66-A584-88B34C32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2F2-ABF0-4D83-B808-92576F44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4A77-D6C9-4542-818B-7AB0E583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4BA-C015-41A9-B200-DB52767C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A7E-16FD-4172-A1AE-B12C7FFC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796-A2A0-415B-9332-D43D70F0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29B-5C36-4E80-A41F-5E474AD4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BA0-5B92-40BD-90EE-E16F4D3C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E2E-B1B7-40CF-921E-0E00F0B2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AD0-7774-4CFF-AC50-064BD8E7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F85-A9C0-4AA0-9FC8-58BE06D5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F50-E858-4EC7-BE38-5078E0D2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6A11D-CFA3-4F3F-B869-FA64569D5E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