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63236"/>
        <c:axId val="13841323"/>
      </c:barChart>
      <c:catAx>
        <c:axId val="96163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41323"/>
        <c:crosses val="autoZero"/>
        <c:auto val="1"/>
        <c:lblAlgn val="ctr"/>
        <c:lblOffset val="100"/>
        <c:noMultiLvlLbl val="0"/>
      </c:catAx>
      <c:valAx>
        <c:axId val="13841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63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4FF8-96C8-4673-8DBA-0A28503E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111-7457-4C33-BF6A-320D5A36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15CE-E5BC-4C8A-9196-8ED75DD9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90C-309F-40AA-8D2E-B61CB15F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071-F24E-488C-808C-F7FBD1CB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FD49-ADB8-4691-B876-972851E9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DAB-1492-4CCE-93C7-AFA70BF9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544-1934-4BC2-8957-D2FC128D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D9E-1789-4F78-BF1F-6C19A99C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F72-7666-4EE4-91CE-15A5FCF0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F65C-4680-4204-8729-1D35FCA0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A5E3-2C95-4162-AE82-8BC07DA8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AD20B-9641-4C4B-AFEB-E3E6B42F94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