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29111"/>
        <c:axId val="55424213"/>
      </c:barChart>
      <c:catAx>
        <c:axId val="356291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24213"/>
        <c:crosses val="autoZero"/>
        <c:auto val="1"/>
        <c:lblAlgn val="ctr"/>
        <c:lblOffset val="100"/>
        <c:noMultiLvlLbl val="0"/>
      </c:catAx>
      <c:valAx>
        <c:axId val="554242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291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7EF3-392E-435F-A5F8-1855680B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C547-FC8A-4A43-9CB4-153ABB14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A810-B41F-4B0B-8D8B-FDCEB16C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0A33-66F7-49F4-B782-35E7EA3AD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AF5F-CA9F-4457-9332-65815991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15D3-F05E-4F79-8FD8-2CDC8DE6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07A3-B803-4AD1-93A3-FE1E2819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DCAE-D837-461E-86BA-FF12B5E0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C909-1559-4B89-A6CB-DA8050FF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3B35-7CFB-4465-8847-30A905EB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4E3C-7A48-432C-A0B0-D140AB47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B064-C735-46A3-B6EE-D5850723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08E5C-B7D2-40A8-ADE3-BF6CFA5FA4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