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20555"/>
        <c:axId val="71628692"/>
      </c:barChart>
      <c:catAx>
        <c:axId val="95620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8692"/>
        <c:crosses val="autoZero"/>
        <c:auto val="1"/>
        <c:lblAlgn val="ctr"/>
        <c:lblOffset val="100"/>
        <c:noMultiLvlLbl val="0"/>
      </c:catAx>
      <c:valAx>
        <c:axId val="71628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0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9D9-49DF-4849-89A2-29CC0ED7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57F-4C9D-43BA-ADC7-2D4B3396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23B-9E9B-4724-8189-14CA88AB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101-99C9-4C8B-B9BC-4B106F22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D9B-7C10-42CF-9C0D-4D13D5CB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6AA-9982-4F54-8861-70E2ED77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347-89E6-4F3C-95C4-AF8BECCC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6EF-778B-4730-B52B-186BC04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084-AF2C-437E-A455-85FFE3F3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4CC-439E-41DF-8959-6B280EB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8FB-AB27-48D1-82BF-84A5959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179-B28E-4484-9894-2FD8BEE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743B1-71A4-4554-A883-07E375F38E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